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SHREG.WAV" ContentType="audio/x-wav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F533-5164-4B02-9589-9E0FEEAD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388F-75C5-4219-9B5A-E94B7138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5AE-64DC-4121-AF2A-91A4D61D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A44-B666-43ED-9317-F5D8602D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9E29-26F0-4B9E-B7B6-0993AD4C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FC1F-87F3-4FCC-9C99-FC4FE55C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57620-D7CD-4957-A987-A248BF17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7A73-180E-44AF-8B59-5531BD16C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661E1-6891-4ACE-A772-401367FD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D5DD5-61FF-440C-9CB7-4082114E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2F58-990D-4BA0-8A9A-83FA5B94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90D2-0310-412B-B07B-5E842109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0FC6-3F43-4B91-A522-611F22F3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5BCF-ABF1-41C4-8A08-7B310BDD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DBC1-62B5-4521-96A0-EFCC7D47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96FD-10B9-49EC-9F35-DC865064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DF03-6495-4450-8E88-E0470C9E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D8FE-6ADC-49FE-8DB4-57A20483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4EF4-CDD7-44EB-8483-B6B55DDB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B1ED-53A8-4EFF-9A9E-1DC216E9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B3B-C060-413F-A805-25618C726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07F-8F0A-4E96-931B-B1A6DDB5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A4E-5C73-4259-B413-65B9682E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EF69-D4C0-430D-964E-2E63ADF3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0D80B-5D79-4674-ADF4-08DEA4F6F155}" type="slidenum">
              <a:rPr b="0" lang="es-E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2" name="ARTBANNA" descr="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Arthsepa" descr="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C29C-078B-42B0-BD23-1141D6827616}" type="slidenum">
              <a:rPr b="0" lang="es-E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y la Ofert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xperimen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recio y Costo de Oportun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a Deman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ecio y Costo de Oportunida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a demanda y la oferta explican cómo se determinan los precios y las cantidades de las cosas compradas y vendid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 precio es u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cio relativ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n precio relativo es un costo de oportun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 siguiente gráfico muestra la diferencia entre un precio relativo y un precio en diner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24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ecio y Costo de Oportunidad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1371600"/>
          <a:ext cx="716292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16292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ntidad demandada</a:t>
            </a:r>
            <a:r>
              <a:rPr b="1" lang="en-US" sz="3200" spc="-1" strike="noStrike">
                <a:solidFill>
                  <a:srgbClr val="0303f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s la cantidad de un bien o servicio que los consumidores planean en un período dado de tiempo y dadas ciertas condicion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Necesidades</a:t>
            </a:r>
            <a:r>
              <a:rPr b="1" lang="en-US" sz="3200" spc="-1" strike="noStrike">
                <a:solidFill>
                  <a:srgbClr val="0303f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n los deseos ilimitados que la gente tiene por bienes y servicio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317520"/>
            <a:ext cx="8077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¿Qué determina los planes de compra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l precio del bi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l precio de los bienes relacion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s expectativas sobre los precios futur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l ingr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 pobl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s preferenc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464040"/>
            <a:ext cx="8077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¿Qué determina los planes de compra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 precio del bi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l precio de los bienes relacion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s expectativas sobre los precios futur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l ingr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 pobl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s preferenc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Ley de la Deman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ientras mayor el precio de un bien menor la cantidad demandada, manteniendo constantes otros determinantes de la deman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zon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l efecto sustitu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l efecto ingres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La Demand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: la cantidad demandada de un bien o servicio a cada nivel de preci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 Demands se presenta com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na Tabla de Deman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na curva de Deman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Tabla de Deman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cio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   Cantidad Demanda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($/video)           (millones de videos/sem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1                             9        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2                             6         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3                             4         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4                             3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5                             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Curva de Deman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81080" y="1676520"/>
          <a:ext cx="5562720" cy="47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76520"/>
                    <a:ext cx="556272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s definiciones de la curva de deman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tidad comprada a un precio da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ecio máximo que estamos dispuestos a pagar por la última unidad comprada de una cantidad da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Curva de Deman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engo tres gaseosas hel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ién quiere una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Uds. 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desean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 una gaseosa, pero desear no es lo mismo que demand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: Un Experim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¿Qué provoca cambios en la demanda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El precio de otros bie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ubstitu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mplemen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ngr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Bienes Norma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Bienes Inferio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Pobl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Las preferenc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Un cambio en la Deman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cio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Cantidad Demanda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($/video)           (millones videos/sem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(VHS: $200)  (VHS:$50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1                    9              13          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2                    6              10          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3                    4                8          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4                    3                7          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5                    2                6          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7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Un cambio en la Deman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05120" y="1371600"/>
          <a:ext cx="541008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1600"/>
                    <a:ext cx="541008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8680" y="2093400"/>
            <a:ext cx="820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uando el precio de un bien cambia, tenemos un 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cambio en la cantidad demandad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que se observa como un 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movimiento a lo largo de la curva de deman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uando se produce un cambio en cualquier otra variable que determina nuestros planes de compra, tenemos un 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cambio en la demand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que se observa como un  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desplazamiento de la curva de demand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6840" y="524880"/>
            <a:ext cx="8458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ambios en la cantidad demandada vs. cambios en la demand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219960"/>
            <a:ext cx="8458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ambios en la cantidad demandada vs. cambios en la demand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00200" y="1523880"/>
          <a:ext cx="5943600" cy="48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594360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Uds. Tienen algo de dinero para comprar una gaseosa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Uds. Tienen la 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capacidad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 para comprar una gaseosa, pero tampoco esta es deman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: Un Experim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90720" y="251424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hora voy a vender estas tres gaseosa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sta es una transacción real y vamos a descubrir la demanda por gaseosas en este sal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: Un Experim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ién quiere comprar una gaseosa por 75 centavo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ién quiere comprar una gaseosa por 1 nuevo so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ién quiere comprar una gaseosa por 1.5 nuevos sole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: Un Experim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ién quiere comprar una gaseosa por 2 nuevos sole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ién quiere comprar una gaseosa por 2.5 nuevos soles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ién quiere comprar una gaseosa por 3 nuevos sole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ién quiere comprar una gaseosa por 3.5 nuevos sole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: Un Experim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abamos de descubrir su curva de demanda por gaseos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odemos ver esta curva de demanda en una hoja de cálculo mediante una tabla y un gráfic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: Un Experim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upongamos que un mal funcionamiento de los equipos de aire acondicionado en este salon provoque que la temperatura se eleve en 10 grado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Cuál será el efecto sobre la demanda de gaseosa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: Un Experim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upongamos que los semaforos dejaron de funcionar y que cerca de aquí hay un embotellamiento del tránsi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é efecto probablemente tendrá esto sobre la curva de demanda de gaseosa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: Un Experim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3T14:51:38Z</dcterms:created>
  <dc:creator>Michael Parkin</dc:creator>
  <dc:description/>
  <dc:language>en-US</dc:language>
  <cp:lastModifiedBy>GUILLERMO PEREYRA</cp:lastModifiedBy>
  <dcterms:modified xsi:type="dcterms:W3CDTF">2001-03-10T20:20:26Z</dcterms:modified>
  <cp:revision>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ichael.parkin@uwo.ca</vt:lpwstr>
  </property>
  <property fmtid="{D5CDD505-2E9C-101B-9397-08002B2CF9AE}" pid="11" name="NavBtnPos">
    <vt:r8>1</vt:r8>
  </property>
  <property fmtid="{D5CDD505-2E9C-101B-9397-08002B2CF9AE}" pid="12" name="Other">
    <vt:lpwstr>These notes are from Michael Parkin's lectures at the University of Western Ontario, Fall 1998.</vt:lpwstr>
  </property>
  <property fmtid="{D5CDD505-2E9C-101B-9397-08002B2CF9AE}" pid="13" name="OutputDir">
    <vt:lpwstr>C:\My Canadian Documents\UWO\Ec20\Lectures\HT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